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797-50EA-47E3-B764-2D2EF630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469-9558-4519-8B3F-77ED4DA2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F01-D669-400E-93CE-7B5EF790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A61-D659-4549-8EA8-B28F612C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15AA-D304-41DA-97D2-01F37BEF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B23A-019D-4620-9177-D4DADCA6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E6DB-5B8E-4426-A5ED-74452503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58D0-1F9D-44ED-8CB3-9FFA007A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D7DE-F5B5-4276-9226-B904A954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E32F-89C2-4220-A916-CDB02A92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9F26-41D6-4F33-BDCA-6FF1E5B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8E0-D2FE-4328-98F9-559FFF8E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F30B-EBAC-45CA-9BDB-DC9E31DD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F456-57FE-4372-AF1B-1CF4DE7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64BA-093F-40F8-8707-38EB4327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553D-C237-40D5-BF8C-87B93682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A07E-03D4-4443-81A5-A0612936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357-B729-4DE0-9A76-61267A06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CAD-5F23-4809-B5A4-3385911A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08F-384C-4A18-ABFB-384A77F2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EF8-34DD-48C2-997C-109E7714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4CA-7DEB-4204-BB8C-1AA8F98B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4D7-928D-4EAA-95E9-288F067D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C48-0163-4172-B93D-74A6716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3B0E-634D-45ED-8D8B-9DD10CA2A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E845-0479-48E3-88E3-F35A6F0E6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Monotype Corsiva"/>
              </a:rPr>
              <a:t>Урок по физике: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Monotype Corsiva"/>
              </a:rPr>
              <a:t>«Последовательное 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Monotype Corsiva"/>
              </a:rPr>
              <a:t>соединение проводников»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304920"/>
            <a:ext cx="236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Monotype Corsiva"/>
              </a:rPr>
              <a:t>Домашнее задан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2133720"/>
            <a:ext cx="6400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cc"/>
                </a:solidFill>
                <a:latin typeface="Times New Roman"/>
                <a:ea typeface="Times New Roman"/>
              </a:rPr>
              <a:t>§</a:t>
            </a:r>
            <a:r>
              <a:rPr b="1" lang="ru-RU" sz="5400" spc="-1" strike="noStrike">
                <a:solidFill>
                  <a:srgbClr val="6666cc"/>
                </a:solidFill>
                <a:latin typeface="Times New Roman"/>
              </a:rPr>
              <a:t>4</a:t>
            </a:r>
            <a:r>
              <a:rPr b="1" lang="en-US" sz="5400" spc="-1" strike="noStrike">
                <a:solidFill>
                  <a:srgbClr val="6666cc"/>
                </a:solidFill>
                <a:latin typeface="Times New Roman"/>
              </a:rPr>
              <a:t>8</a:t>
            </a:r>
            <a:r>
              <a:rPr b="1" lang="ru-RU" sz="5400" spc="-1" strike="noStrike">
                <a:solidFill>
                  <a:srgbClr val="6666cc"/>
                </a:solidFill>
                <a:latin typeface="Times New Roman"/>
              </a:rPr>
              <a:t>, вопросы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cc"/>
                </a:solidFill>
                <a:latin typeface="Times New Roman"/>
              </a:rPr>
              <a:t>упр. 2</a:t>
            </a:r>
            <a:r>
              <a:rPr b="1" lang="en-US" sz="5400" spc="-1" strike="noStrike">
                <a:solidFill>
                  <a:srgbClr val="6666cc"/>
                </a:solidFill>
                <a:latin typeface="Times New Roman"/>
              </a:rPr>
              <a:t>2</a:t>
            </a:r>
            <a:r>
              <a:rPr b="1" lang="ru-RU" sz="5400" spc="-1" strike="noStrike">
                <a:solidFill>
                  <a:srgbClr val="6666cc"/>
                </a:solidFill>
                <a:latin typeface="Times New Roman"/>
              </a:rPr>
              <a:t> (1, 3)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518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следовательном соедин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а тока 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ых участках цепи одна и та 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е напряжение в цепи равно сумме напряжений на отдельных участках цеп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е сопротивление в цепи равно сумме сопротивлений на отдельных участках цеп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2920" y="228600"/>
            <a:ext cx="6807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ового узнали сегодня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Monotype Corsiva"/>
              </a:rPr>
              <a:t>Повторение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19520" y="1576440"/>
            <a:ext cx="72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физические величины характеризуют электрический ток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4996080" cy="3743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443640" y="2492280"/>
            <a:ext cx="18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бо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3645000"/>
            <a:ext cx="171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472428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39640" y="1413000"/>
          <a:ext cx="6120000" cy="46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413000"/>
                    <a:ext cx="612000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732720" y="162864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51960" y="1700280"/>
            <a:ext cx="1482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ерме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4920" y="3665520"/>
            <a:ext cx="13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79240" y="3357720"/>
            <a:ext cx="1428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ьтме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33360"/>
            <a:ext cx="524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Повтор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47640" y="333360"/>
            <a:ext cx="51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Повтор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1557360"/>
            <a:ext cx="259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9280" y="1647720"/>
            <a:ext cx="61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остейшая электрическая цепь у нас состоя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4996080" cy="3743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56360" y="2133720"/>
            <a:ext cx="2319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точника то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лампочки, соединительных провод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7640" y="407664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он О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участка цеп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2456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588000" y="4941720"/>
                <a:ext cx="8035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16000" y="5493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единение провод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0" r="48251" b="20542"/>
          <a:stretch/>
        </p:blipFill>
        <p:spPr>
          <a:xfrm>
            <a:off x="826920" y="1484280"/>
            <a:ext cx="4680000" cy="2803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4581360"/>
            <a:ext cx="686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и проводника (три резистора) соединены в цепь друг за другом. Такое соединение проводников в электрической цеп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азывается последовательн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64200" y="1936800"/>
            <a:ext cx="21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26200" y="1681560"/>
            <a:ext cx="204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м образ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единяю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одн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указанну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лектрическ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ем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«Последовательно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соединение проводник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2852640"/>
            <a:ext cx="729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периментально определить соотношение между величинами силы тока, напряжения на отдельных участках цепи при  последовательном соединении проводник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периментально определить общее сопротивление цепи при последовательном соединении проводник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и навыков собирать простейшие электрические цепи, а также пользоваться измерительными приборами (амперметром и вольтметр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олжить работу по формированию умений работать в коллективе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олжить работу по формированию умений делать выводы и обобщения на основе результатов проведённого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олжить развитие мышления, творческих и исследовательских способностей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68360" y="476280"/>
            <a:ext cx="36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ыполни зад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14842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периментально изучи последовательное соединение провод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205000"/>
            <a:ext cx="657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я по группа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 участка цепи, выбранного соединения проводников (схема 1) , экспериментально определить значения силы на различных участках цеп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 участка цепи, выбранного соединения проводников (схема 1) , экспериментально определить значения напряжения на различных участках цеп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ь общее сопротивление цепи на основании общего значения напряжения и силы тока в цеп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новании полученных в ходе исследования результатов сделать соответствующие выводы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Вывод закономерностей последовательного соедин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0" t="0" r="0" b="16230"/>
          <a:stretch/>
        </p:blipFill>
        <p:spPr>
          <a:xfrm>
            <a:off x="900000" y="1989000"/>
            <a:ext cx="290520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1773360"/>
            <a:ext cx="289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=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2205000"/>
            <a:ext cx="22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rcRect l="0" t="0" r="0" b="14617"/>
          <a:stretch/>
        </p:blipFill>
        <p:spPr>
          <a:xfrm>
            <a:off x="971640" y="3860640"/>
            <a:ext cx="2757240" cy="1721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00720" y="2637000"/>
            <a:ext cx="3547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84920" y="3736800"/>
            <a:ext cx="31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645000"/>
            <a:ext cx="360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R=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24560" y="4456080"/>
            <a:ext cx="32605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R=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643280" y="5300640"/>
                <a:ext cx="1944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07:34:23Z</dcterms:created>
  <dc:creator>11в</dc:creator>
  <dc:description/>
  <dc:language>en-US</dc:language>
  <cp:lastModifiedBy>Сергей</cp:lastModifiedBy>
  <dcterms:modified xsi:type="dcterms:W3CDTF">2010-03-09T14:58:01Z</dcterms:modified>
  <cp:revision>16</cp:revision>
  <dc:subject/>
  <dc:title>Параллельное соединение проводников</dc:title>
</cp:coreProperties>
</file>